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20880-EDED-4F7A-B260-E49E251846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20F9C-25CD-43EF-BD43-ABE7264EF0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6BB9-78BD-403B-9EF9-23E0ADFE2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9D25-89FD-4FF4-A46C-A8678DFCE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B762-4855-48FF-AB0F-19502F20D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5462-2EEE-427C-9BC4-8D80B31B6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EC9C8-B21F-4CFF-9D44-EB4E780E4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F5B4D-5D2A-41E7-90E8-F0E1D1560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5F0A0-35B4-44CC-965D-DDD80B5A4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F82DB-CB74-40BE-ABB8-D1FFB210E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FE242-3F6F-4B6F-B47E-85731B1F3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8E4BB-3759-4E8A-9094-D4B470AB7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BF36D-E078-4322-A3B6-2BF99AC7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44E0-67F7-49AF-93F2-47A7BED6D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BB290-0C5D-4D1D-90E8-28394AD3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53587-3163-4E70-A27A-0BD960BA4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C3E0F-753B-4B26-B9D3-F0B92973D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38AC2-29FE-47B6-B01B-7A6348912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4939D-BAEC-4ADB-AEF3-9FC1CCF1C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5651A-6A02-4119-BEAB-600EAA82D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1657D-611D-4741-9931-DD7085D08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508AD-7979-470B-8D40-E516113CD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F0109-6743-4FC3-9C6D-C34BE692A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385C9-89EE-4BE6-AA21-A604870D1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A225-3282-47E4-8D2D-44893EFF0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AA231-8BB5-4B23-AF4D-2033ACB1E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FB76B-5A2A-42A1-9E2F-7EFE097A1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11844-D4B7-431E-80A6-FE054240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81AE4-6FCD-417C-8362-C026B00C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02C49-26FD-4132-AAA6-E2F776B96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B10AD-E825-4531-8AD6-14FCE7205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5BDCE-D530-4CFF-A461-36982E6B3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4CBC1-A6A0-4353-A2BE-3308C59AC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FBA00-CED6-419D-B24E-D716E9448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0E92B-38AA-4210-BC96-4BCB4AEB8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9C43-EEB4-4C61-8754-BC8390093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40754-D88E-4693-A117-D63DD03DF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26417-F73F-45AF-BC4D-FA58147C2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5405B-53F4-4EFF-8DE7-3526C3132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9FF31-BB0D-4071-8515-8ADC37DC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901A4-C959-4928-AF8F-364E9960E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5D261-BE62-44C9-B9FC-A209048F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4A902-0C48-4365-A975-B39144881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4A1E0-B241-4BB5-8E6D-E3C7CEE40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299B8-78F5-42AD-9E2E-125F3C38A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CC0F-1D98-4079-9ADE-8F5E88D99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7559-5F0B-4BA2-A252-02D877C6E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78A0-1B29-4A89-8BAE-8432586C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A9DC-D8AE-43EF-964C-428D670FD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1BF4-7F11-4789-9E43-09FD850F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A2558-EBCD-4966-8A5A-C0D52386C73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60127-5181-4622-AB41-285D6A70D125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54018-4D23-4D84-8C14-CC1E094102DA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1E205-2607-4641-A533-ECE8ACC7131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Description of project intervention sites 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25905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oject inception worksho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y: Dr Birhanu, Gerba &amp; Kebeb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LRI-Addi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28 September 201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4" name="Picture 2" descr="http://nilebdc.wikispaces.com/file/view/NBDC_MediumSize.jpg/164167277/NBDC_MediumSiz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Prevailing problems  &amp; opportunities for </a:t>
            </a: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intervention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457200" y="1752480"/>
          <a:ext cx="8458200" cy="4457880"/>
        </p:xfrm>
        <a:graphic>
          <a:graphicData uri="http://schemas.openxmlformats.org/drawingml/2006/table">
            <a:tbl>
              <a:tblPr/>
              <a:tblGrid>
                <a:gridCol w="1017720"/>
                <a:gridCol w="3993840"/>
                <a:gridCol w="3446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Wore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Issues(problem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Opportuniti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47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eld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evere land degradation &amp; high level of pover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hortage of farm/grazing l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ccelerated erosion &amp; productivity dec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oor land manageme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rowing soil acid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idespread food insecurity (23/3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arge livestock popn with poor mng’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ivestock disease &amp; lack access to improved bre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rratic &amp; errosive rainf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xpansion of Eucalyptus planta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deal climate for introduction of highland fruits and fee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umerous small streams &amp; rivers for expansion of irriga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rowing awareness on intensification of livestock mng’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vailable local market for livestock &amp; their produc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elative disease free area for potato &amp; access to its se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merging public interest for land &amp; water mng’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ccess to technology through research support (EIA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ssues &amp; opportunities…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304920" y="1447920"/>
          <a:ext cx="8458200" cy="4784760"/>
        </p:xfrm>
        <a:graphic>
          <a:graphicData uri="http://schemas.openxmlformats.org/drawingml/2006/table">
            <a:tbl>
              <a:tblPr/>
              <a:tblGrid>
                <a:gridCol w="1066680"/>
                <a:gridCol w="4191120"/>
                <a:gridCol w="3200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Wored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Issues/proble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opportun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01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i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oil erosion &amp; land degrad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arm &amp; grazing land short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oor land &amp; water management pract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oil acidity and termite infestatio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oor livestock mng’t (feed, health, popn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hortage of drinking water in few kebe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ivestock dise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ncroachmen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ood climate for growing cro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umerous perennial rivers for irrigation dev’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earby market for livestock &amp; their produc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rowing livestock tethering practice  that simplify intervention  for mng’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xtension of gov’t effort on irrigation dev’t &amp; livestock feeding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04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oge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arge livestock popn &amp; associated feed short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ivestock dise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hortage of improved bre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resence of NGO’s for promoting technologies (IPMS &amp; EWNR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nvolvement of d/t research &amp; dev’t organizatio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dequate water for irrig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ood awareness &amp; initiative on N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Major Actors involved in the intervention sites</a:t>
            </a: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bd0d9"/>
                </a:solidFill>
                <a:latin typeface="Constantia"/>
              </a:rPr>
              <a:t>a) Government line office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76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Constantia"/>
              </a:rPr>
              <a:t>Woreda Office of Administration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76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Constantia"/>
              </a:rPr>
              <a:t>Woreda Office of Agriculture and Rural Development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76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Constantia"/>
              </a:rPr>
              <a:t>Woreda Livestock production &amp; marketing Agency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76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Constantia"/>
              </a:rPr>
              <a:t>Woreda  office of rural water resource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76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Constantia"/>
              </a:rPr>
              <a:t>Cooperative promotion office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76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Constantia"/>
              </a:rPr>
              <a:t>Regional government line offices (Agriculture, water) &amp; Seed enterprises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76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Constantia"/>
              </a:rPr>
              <a:t>Federal and Regional Agricultural Research Institutes &amp; Universities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bd0d9"/>
                </a:solidFill>
                <a:latin typeface="Constantia"/>
              </a:rPr>
              <a:t>b) Private Enterprises/Associa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76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Constantia"/>
              </a:rPr>
              <a:t>Saving and credit Association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76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Constantia"/>
              </a:rPr>
              <a:t>Veterinary clinics (area specific)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76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Constantia"/>
              </a:rPr>
              <a:t>Traders (Retail and wholesaler)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Major actors…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09040" indent="-50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f6fc6"/>
                </a:solidFill>
                <a:latin typeface="Constantia"/>
              </a:rPr>
              <a:t>4.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roker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Constantia"/>
              </a:rPr>
              <a:t>5.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Farmers cooperative union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Constantia"/>
              </a:rPr>
              <a:t>6.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armers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) NGOs (types and presence is area specific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Hunger projec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Hope 2020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Jeldu wored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PM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nstantia"/>
              </a:rPr>
              <a:t>EWNRA</a:t>
            </a:r>
            <a:r>
              <a:rPr b="0" lang="en-CA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Constantia"/>
              </a:rPr>
              <a:t>Foger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nstantia"/>
              </a:rPr>
              <a:t>No NGO is involving in Diga woreda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Right Brace 3"/>
          <p:cNvSpPr/>
          <p:nvPr/>
        </p:nvSpPr>
        <p:spPr>
          <a:xfrm>
            <a:off x="2819520" y="3809880"/>
            <a:ext cx="46080" cy="533520"/>
          </a:xfrm>
          <a:custGeom>
            <a:avLst/>
            <a:gdLst>
              <a:gd name="textAreaLeft" fmla="*/ 0 w 46080"/>
              <a:gd name="textAreaRight" fmla="*/ 16560 w 46080"/>
              <a:gd name="textAreaTop" fmla="*/ 1080 h 533520"/>
              <a:gd name="textAreaBottom" fmla="*/ 5324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7"/>
                  <a:pt x="10800" y="154"/>
                </a:cubicBezTo>
                <a:lnTo>
                  <a:pt x="10800" y="10646"/>
                </a:lnTo>
                <a:cubicBezTo>
                  <a:pt x="10800" y="10723"/>
                  <a:pt x="16200" y="10800"/>
                  <a:pt x="21600" y="10800"/>
                </a:cubicBezTo>
                <a:cubicBezTo>
                  <a:pt x="16200" y="10800"/>
                  <a:pt x="10800" y="10877"/>
                  <a:pt x="10800" y="10954"/>
                </a:cubicBezTo>
                <a:lnTo>
                  <a:pt x="10800" y="21446"/>
                </a:lnTo>
                <a:cubicBezTo>
                  <a:pt x="10800" y="21523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Right Brace 4"/>
          <p:cNvSpPr/>
          <p:nvPr/>
        </p:nvSpPr>
        <p:spPr>
          <a:xfrm>
            <a:off x="2133720" y="4419720"/>
            <a:ext cx="152280" cy="533160"/>
          </a:xfrm>
          <a:custGeom>
            <a:avLst/>
            <a:gdLst>
              <a:gd name="textAreaLeft" fmla="*/ 0 w 152280"/>
              <a:gd name="textAreaRight" fmla="*/ 55080 w 152280"/>
              <a:gd name="textAreaTop" fmla="*/ 6480 h 533160"/>
              <a:gd name="textAreaBottom" fmla="*/ 5266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32"/>
                  <a:pt x="10800" y="864"/>
                </a:cubicBezTo>
                <a:lnTo>
                  <a:pt x="10800" y="16416"/>
                </a:lnTo>
                <a:cubicBezTo>
                  <a:pt x="10800" y="16848"/>
                  <a:pt x="16200" y="17280"/>
                  <a:pt x="21600" y="17280"/>
                </a:cubicBezTo>
                <a:cubicBezTo>
                  <a:pt x="16200" y="17280"/>
                  <a:pt x="10800" y="17712"/>
                  <a:pt x="10800" y="18144"/>
                </a:cubicBezTo>
                <a:lnTo>
                  <a:pt x="10800" y="20736"/>
                </a:lnTo>
                <a:cubicBezTo>
                  <a:pt x="10800" y="2116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Rectangle 4" descr=""/>
          <p:cNvPicPr/>
          <p:nvPr/>
        </p:nvPicPr>
        <p:blipFill>
          <a:blip r:embed="rId1"/>
          <a:stretch/>
        </p:blipFill>
        <p:spPr>
          <a:xfrm>
            <a:off x="542880" y="1457280"/>
            <a:ext cx="7162920" cy="174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Distribution of human population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609480" y="2362320"/>
          <a:ext cx="8229600" cy="202716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840"/>
                <a:gridCol w="1645920"/>
                <a:gridCol w="16462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Wore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opula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Women                Men                          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Average persons/H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eld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2,7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,8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2,6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i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5,1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3,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8,9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oge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7, 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  <p:sp>
        <p:nvSpPr>
          <p:cNvPr id="207" name="TextBox 4"/>
          <p:cNvSpPr/>
          <p:nvPr/>
        </p:nvSpPr>
        <p:spPr>
          <a:xfrm>
            <a:off x="685800" y="441972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ource: WoARD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Historical/occupational/ trend analysis</a:t>
            </a:r>
            <a:br>
              <a:rPr sz="3600"/>
            </a:b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landuse/cover change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opulation has been booming over the last  few decad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orest clearing for cultivation of terrain and fragile land has been concurrently growing particularly in Jeldu &amp; Diga woreda during the last couple of decad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ncept &amp; practice of NRM has been introduced during the Derge regime  along with emerging disaster owing to natural and anthropogenic factors (the approach is, however, top-down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ther than Fogera, the current efforts to arrest and reverse the growing land degradation problem is margina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verall, the need for managing land &amp; water is emerging but constrained largely by shortage of resources and skil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Predominant crops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 and farming systems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04920" y="1828800"/>
          <a:ext cx="8229600" cy="4206960"/>
        </p:xfrm>
        <a:graphic>
          <a:graphicData uri="http://schemas.openxmlformats.org/drawingml/2006/table">
            <a:tbl>
              <a:tblPr/>
              <a:tblGrid>
                <a:gridCol w="1231920"/>
                <a:gridCol w="1511280"/>
                <a:gridCol w="1676160"/>
                <a:gridCol w="1981440"/>
                <a:gridCol w="18288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Wore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redominant crops alo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agro-ecolog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Highland         Midland             Lowland/FP/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Rema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eld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arley, wheat, potato-livestock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heat, barley, teff-livesto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orghum, maize, teff-livesto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ixed crop-livestock system is  a common practice for all sit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i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eff, millet, maize-livesto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aize, sorghum, sesame-livestock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oge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arley, Niger seed, wheat, –livesto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ice, maize, millet, teff-livestock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2" name="TextBox 4"/>
          <p:cNvSpPr/>
          <p:nvPr/>
        </p:nvSpPr>
        <p:spPr>
          <a:xfrm>
            <a:off x="762120" y="632448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ource: WoARD           * Flood plain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Landuse patterns of the study site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4" name="Content Placeholder 4" descr=""/>
          <p:cNvPicPr/>
          <p:nvPr/>
        </p:nvPicPr>
        <p:blipFill>
          <a:blip r:embed="rId1"/>
          <a:stretch/>
        </p:blipFill>
        <p:spPr>
          <a:xfrm>
            <a:off x="378000" y="1974960"/>
            <a:ext cx="823572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Livestock population of the wored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6" name="Content Placeholder 4" descr=""/>
          <p:cNvPicPr/>
          <p:nvPr/>
        </p:nvPicPr>
        <p:blipFill>
          <a:blip r:embed="rId1"/>
          <a:stretch/>
        </p:blipFill>
        <p:spPr>
          <a:xfrm>
            <a:off x="450720" y="1925640"/>
            <a:ext cx="824256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Crop-livestock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 contribution to the </a:t>
            </a: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livelihood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 (source of income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457200" y="2438280"/>
          <a:ext cx="7391520" cy="2963880"/>
        </p:xfrm>
        <a:graphic>
          <a:graphicData uri="http://schemas.openxmlformats.org/drawingml/2006/table">
            <a:tbl>
              <a:tblPr/>
              <a:tblGrid>
                <a:gridCol w="2463840"/>
                <a:gridCol w="2463840"/>
                <a:gridCol w="2463840"/>
              </a:tblGrid>
              <a:tr h="825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Wore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ercent contribution (on averag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ivestoc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rop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6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ld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6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ig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5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oge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Characterizing rainfall, altitude &amp; </a:t>
            </a: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agro ecology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457200" y="1935000"/>
          <a:ext cx="8229600" cy="3856320"/>
        </p:xfrm>
        <a:graphic>
          <a:graphicData uri="http://schemas.openxmlformats.org/drawingml/2006/table">
            <a:tbl>
              <a:tblPr/>
              <a:tblGrid>
                <a:gridCol w="1447920"/>
                <a:gridCol w="2666880"/>
                <a:gridCol w="1905120"/>
                <a:gridCol w="22096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Wored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Mean annual RF (mm) &amp; its distribu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Altitude (m as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Agro-ecology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ld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00-1350 (seldom unpredictable with erratic &amp; erosive natu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325-3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owland (25)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idland  (30) &amp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ighland  (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4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3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i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376-2037 (uniform and &amp; torrentia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140-2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idland (4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owland (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6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oge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74-1516 (Fluctuate/errati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774-2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idland/plain(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75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ighland (2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and feature &amp; soil typ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457200" y="1935000"/>
          <a:ext cx="8001000" cy="3581640"/>
        </p:xfrm>
        <a:graphic>
          <a:graphicData uri="http://schemas.openxmlformats.org/drawingml/2006/table">
            <a:tbl>
              <a:tblPr/>
              <a:tblGrid>
                <a:gridCol w="1333440"/>
                <a:gridCol w="3259080"/>
                <a:gridCol w="34084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Wore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Land fea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Soil typ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ld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ndulating /roll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iverse shallow soil (Leptic)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cidity is highly prevaili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ow fertility mng’t practic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i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ndulating midland to relatively flat lowl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ynamic soil types b/c changes in landuse- Histic Nitosols *is comm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cidity is widespread probl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ow fertility mng’t practic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oge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lat plain  and steep highl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tric vertisol (plain) &amp; leptosol (highland)*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  <p:sp>
        <p:nvSpPr>
          <p:cNvPr id="223" name="TextBox 4"/>
          <p:cNvSpPr/>
          <p:nvPr/>
        </p:nvSpPr>
        <p:spPr>
          <a:xfrm>
            <a:off x="533520" y="6172200"/>
            <a:ext cx="70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* Specific soil types will be verified in the future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3T13:21:39Z</dcterms:created>
  <dc:creator>gleta</dc:creator>
  <dc:description/>
  <dc:language>en-US</dc:language>
  <cp:lastModifiedBy>gleta</cp:lastModifiedBy>
  <dcterms:modified xsi:type="dcterms:W3CDTF">2010-09-28T05:20:17Z</dcterms:modified>
  <cp:revision>69</cp:revision>
  <dc:subject/>
  <dc:title>Description of NBDC Project intervention sites  </dc:title>
</cp:coreProperties>
</file>